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DDDC-A3FD-4545-A3B2-5B869A003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1FDE-0CBA-4C62-A2F2-5E292AF80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E410-6BD0-4278-BF9F-54EBE67B4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7533-8945-48C5-BD5E-A264A595D1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124C-AC9B-4E69-A0D9-6FD8E4E5A6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A370-047B-4859-9367-B9C32B4C1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D3C5-272F-4F3E-B439-7735EF9CE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481D4-274E-4581-9052-8222B2EED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84F0-A0F5-441B-816D-70EF132E1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051D-7106-4BB6-AE16-524E1B975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C8FA-DDBA-4014-BBC4-66860555C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92A3-FF07-4AEA-AD35-FB122563D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E03417-A6EA-4463-AE5B-ACDEAD7A346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sp>
          <p:nvSpPr>
            <p:cNvPr id="42" name="AutoShape 2"/>
            <p:cNvSpPr/>
            <p:nvPr/>
          </p:nvSpPr>
          <p:spPr>
            <a:xfrm rot="5400000">
              <a:off x="-569880" y="570960"/>
              <a:ext cx="2209680" cy="10670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0" y="0"/>
              <a:ext cx="914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  <a:ea typeface="Osaka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  <a:ea typeface="Osaka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984240" y="90360"/>
              <a:ext cx="686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  <a:ea typeface="Osaka"/>
                </a:rPr>
                <a:t>La función de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320" y="6400800"/>
              <a:ext cx="65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  <a:ea typeface="Osaka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288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7"/>
            <p:cNvSpPr/>
            <p:nvPr/>
          </p:nvSpPr>
          <p:spPr>
            <a:xfrm>
              <a:off x="1828800" y="2666880"/>
              <a:ext cx="569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  <a:ea typeface="Osaka"/>
                </a:rPr>
                <a:t>LA COMPOSICIÓN DE LOS SERES VIV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sp>
          <p:nvSpPr>
            <p:cNvPr id="49" name="AutoShape 2"/>
            <p:cNvSpPr/>
            <p:nvPr/>
          </p:nvSpPr>
          <p:spPr>
            <a:xfrm rot="5400000">
              <a:off x="-569880" y="570960"/>
              <a:ext cx="2209680" cy="10670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3"/>
            <p:cNvSpPr/>
            <p:nvPr/>
          </p:nvSpPr>
          <p:spPr>
            <a:xfrm>
              <a:off x="0" y="0"/>
              <a:ext cx="914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  <a:ea typeface="Osaka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  <a:ea typeface="Osaka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Text Box 4"/>
            <p:cNvSpPr/>
            <p:nvPr/>
          </p:nvSpPr>
          <p:spPr>
            <a:xfrm>
              <a:off x="984240" y="90360"/>
              <a:ext cx="686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  <a:ea typeface="Osaka"/>
                </a:rPr>
                <a:t>La composición de los seres viv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76320" y="6400800"/>
              <a:ext cx="65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  <a:ea typeface="Osaka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2880" cy="57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Rectangle 7"/>
          <p:cNvSpPr/>
          <p:nvPr/>
        </p:nvSpPr>
        <p:spPr>
          <a:xfrm>
            <a:off x="3259080" y="1066680"/>
            <a:ext cx="2362320" cy="503280"/>
          </a:xfrm>
          <a:prstGeom prst="rect">
            <a:avLst/>
          </a:prstGeom>
          <a:gradFill rotWithShape="0">
            <a:gsLst>
              <a:gs pos="0">
                <a:srgbClr val="92c200"/>
              </a:gs>
              <a:gs pos="100000">
                <a:srgbClr val="99cc00">
                  <a:alpha val="70196"/>
                </a:srgbClr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os seres v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4440240" y="1549440"/>
            <a:ext cx="0" cy="7365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3556080" y="1752480"/>
            <a:ext cx="1770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án formados p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2286000" y="2284560"/>
            <a:ext cx="4308480" cy="144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AutoShape 31"/>
          <p:cNvSpPr/>
          <p:nvPr/>
        </p:nvSpPr>
        <p:spPr>
          <a:xfrm>
            <a:off x="2133720" y="52578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0082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AutoShape 32"/>
          <p:cNvSpPr/>
          <p:nvPr/>
        </p:nvSpPr>
        <p:spPr>
          <a:xfrm>
            <a:off x="6477120" y="52578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0082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33"/>
          <p:cNvSpPr/>
          <p:nvPr/>
        </p:nvSpPr>
        <p:spPr>
          <a:xfrm>
            <a:off x="1752480" y="578952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Pulsa en los botones para saber m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Group 41"/>
          <p:cNvGrpSpPr/>
          <p:nvPr/>
        </p:nvGrpSpPr>
        <p:grpSpPr>
          <a:xfrm>
            <a:off x="4782960" y="2286000"/>
            <a:ext cx="3598920" cy="2776680"/>
            <a:chOff x="4782960" y="2286000"/>
            <a:chExt cx="3598920" cy="2776680"/>
          </a:xfrm>
        </p:grpSpPr>
        <p:sp>
          <p:nvSpPr>
            <p:cNvPr id="62" name="Line 36"/>
            <p:cNvSpPr/>
            <p:nvPr/>
          </p:nvSpPr>
          <p:spPr>
            <a:xfrm>
              <a:off x="6581880" y="2286000"/>
              <a:ext cx="0" cy="259092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Text Box 25"/>
            <p:cNvSpPr/>
            <p:nvPr/>
          </p:nvSpPr>
          <p:spPr>
            <a:xfrm>
              <a:off x="5862600" y="3657600"/>
              <a:ext cx="1440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que s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>
              <a:off x="4782960" y="2575080"/>
              <a:ext cx="3598920" cy="720720"/>
            </a:xfrm>
            <a:prstGeom prst="rect">
              <a:avLst/>
            </a:prstGeom>
            <a:solidFill>
              <a:srgbClr val="ceea7e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Compuestos inorgánicos </a:t>
              </a:r>
              <a:br>
                <a:rPr sz="1800"/>
              </a:b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(el 75% de la masa tota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20"/>
            <p:cNvSpPr/>
            <p:nvPr/>
          </p:nvSpPr>
          <p:spPr>
            <a:xfrm>
              <a:off x="5070600" y="4343400"/>
              <a:ext cx="3024000" cy="719280"/>
            </a:xfrm>
            <a:prstGeom prst="rect">
              <a:avLst/>
            </a:prstGeom>
            <a:solidFill>
              <a:srgbClr val="ddf09f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Agua, dióxido de carbono,</a:t>
              </a:r>
              <a:br>
                <a:rPr sz="1600"/>
              </a:b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 minerales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Group 40"/>
          <p:cNvGrpSpPr/>
          <p:nvPr/>
        </p:nvGrpSpPr>
        <p:grpSpPr>
          <a:xfrm>
            <a:off x="639720" y="2286000"/>
            <a:ext cx="3322800" cy="2776680"/>
            <a:chOff x="639720" y="2286000"/>
            <a:chExt cx="3322800" cy="2776680"/>
          </a:xfrm>
        </p:grpSpPr>
        <p:sp>
          <p:nvSpPr>
            <p:cNvPr id="67" name="Line 34"/>
            <p:cNvSpPr/>
            <p:nvPr/>
          </p:nvSpPr>
          <p:spPr>
            <a:xfrm>
              <a:off x="2300400" y="2286000"/>
              <a:ext cx="0" cy="259092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Rectangle 9"/>
            <p:cNvSpPr/>
            <p:nvPr/>
          </p:nvSpPr>
          <p:spPr>
            <a:xfrm>
              <a:off x="639720" y="2575080"/>
              <a:ext cx="3322800" cy="720720"/>
            </a:xfrm>
            <a:prstGeom prst="rect">
              <a:avLst/>
            </a:prstGeom>
            <a:solidFill>
              <a:srgbClr val="ceea7e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Compuestos orgánicos </a:t>
              </a:r>
              <a:br>
                <a:rPr sz="1800"/>
              </a:b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(el 25% de la masa tota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Text Box 24"/>
            <p:cNvSpPr/>
            <p:nvPr/>
          </p:nvSpPr>
          <p:spPr>
            <a:xfrm>
              <a:off x="1581120" y="3657600"/>
              <a:ext cx="1440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que s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9"/>
            <p:cNvSpPr/>
            <p:nvPr/>
          </p:nvSpPr>
          <p:spPr>
            <a:xfrm>
              <a:off x="789120" y="4343400"/>
              <a:ext cx="3024000" cy="719280"/>
            </a:xfrm>
            <a:prstGeom prst="rect">
              <a:avLst/>
            </a:prstGeom>
            <a:solidFill>
              <a:srgbClr val="ddf09f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Glúcidos, proteínas,</a:t>
              </a:r>
              <a:br>
                <a:rPr sz="1600"/>
              </a:b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lípidos, ADN, vitaminas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1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sp>
          <p:nvSpPr>
            <p:cNvPr id="72" name="AutoShape 2"/>
            <p:cNvSpPr/>
            <p:nvPr/>
          </p:nvSpPr>
          <p:spPr>
            <a:xfrm rot="5400000">
              <a:off x="-569880" y="570960"/>
              <a:ext cx="2209680" cy="10670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Text Box 3"/>
            <p:cNvSpPr/>
            <p:nvPr/>
          </p:nvSpPr>
          <p:spPr>
            <a:xfrm>
              <a:off x="0" y="0"/>
              <a:ext cx="914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  <a:ea typeface="Osaka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  <a:ea typeface="Osaka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Text Box 4"/>
            <p:cNvSpPr/>
            <p:nvPr/>
          </p:nvSpPr>
          <p:spPr>
            <a:xfrm>
              <a:off x="984240" y="90360"/>
              <a:ext cx="686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  <a:ea typeface="Osaka"/>
                </a:rPr>
                <a:t>La composición de los seres viv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>
              <a:off x="76320" y="6400800"/>
              <a:ext cx="65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  <a:ea typeface="Osaka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2880" cy="57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Text Box 7"/>
          <p:cNvSpPr/>
          <p:nvPr/>
        </p:nvSpPr>
        <p:spPr>
          <a:xfrm>
            <a:off x="755640" y="1268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Arial"/>
              </a:rPr>
              <a:t>Compuestos orgán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39640" y="1773360"/>
            <a:ext cx="7417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compuestos orgánicos tienen moléculas complejas formadas por cadenas de átomos de carbono unidas a otros átomos. Los más importantes en los seres vivos son los 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glúci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los 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lípi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las 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proteín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el 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AD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las 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vitamin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4952880" y="4267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ena de carbo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Group 31"/>
          <p:cNvGrpSpPr/>
          <p:nvPr/>
        </p:nvGrpSpPr>
        <p:grpSpPr>
          <a:xfrm>
            <a:off x="3132000" y="3429000"/>
            <a:ext cx="1511280" cy="2664000"/>
            <a:chOff x="3132000" y="3429000"/>
            <a:chExt cx="1511280" cy="2664000"/>
          </a:xfrm>
        </p:grpSpPr>
        <p:sp>
          <p:nvSpPr>
            <p:cNvPr id="81" name="Text Box 23"/>
            <p:cNvSpPr/>
            <p:nvPr/>
          </p:nvSpPr>
          <p:spPr>
            <a:xfrm>
              <a:off x="4211640" y="4716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" name="Picture 9" descr=""/>
            <p:cNvPicPr/>
            <p:nvPr/>
          </p:nvPicPr>
          <p:blipFill>
            <a:blip r:embed="rId2"/>
            <a:stretch/>
          </p:blipFill>
          <p:spPr>
            <a:xfrm>
              <a:off x="3157560" y="3446640"/>
              <a:ext cx="141444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4"/>
            <p:cNvSpPr/>
            <p:nvPr/>
          </p:nvSpPr>
          <p:spPr>
            <a:xfrm>
              <a:off x="3635280" y="43560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Text Box 15"/>
            <p:cNvSpPr/>
            <p:nvPr/>
          </p:nvSpPr>
          <p:spPr>
            <a:xfrm>
              <a:off x="3635280" y="3789360"/>
              <a:ext cx="4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3635280" y="4932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Text Box 17"/>
            <p:cNvSpPr/>
            <p:nvPr/>
          </p:nvSpPr>
          <p:spPr>
            <a:xfrm>
              <a:off x="3203640" y="3429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Text Box 18"/>
            <p:cNvSpPr/>
            <p:nvPr/>
          </p:nvSpPr>
          <p:spPr>
            <a:xfrm>
              <a:off x="4140360" y="4356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Text Box 19"/>
            <p:cNvSpPr/>
            <p:nvPr/>
          </p:nvSpPr>
          <p:spPr>
            <a:xfrm>
              <a:off x="3708360" y="5373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Text Box 20"/>
            <p:cNvSpPr/>
            <p:nvPr/>
          </p:nvSpPr>
          <p:spPr>
            <a:xfrm>
              <a:off x="3132000" y="4365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21"/>
            <p:cNvSpPr/>
            <p:nvPr/>
          </p:nvSpPr>
          <p:spPr>
            <a:xfrm>
              <a:off x="3203640" y="5003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22"/>
            <p:cNvSpPr/>
            <p:nvPr/>
          </p:nvSpPr>
          <p:spPr>
            <a:xfrm>
              <a:off x="3708360" y="5724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Text Box 24"/>
            <p:cNvSpPr/>
            <p:nvPr/>
          </p:nvSpPr>
          <p:spPr>
            <a:xfrm>
              <a:off x="4067280" y="50036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Text Box 25"/>
            <p:cNvSpPr/>
            <p:nvPr/>
          </p:nvSpPr>
          <p:spPr>
            <a:xfrm>
              <a:off x="4067280" y="3716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AutoShape 27"/>
          <p:cNvSpPr/>
          <p:nvPr/>
        </p:nvSpPr>
        <p:spPr>
          <a:xfrm>
            <a:off x="91440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2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28"/>
          <p:cNvSpPr/>
          <p:nvPr/>
        </p:nvSpPr>
        <p:spPr>
          <a:xfrm>
            <a:off x="4572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sp>
          <p:nvSpPr>
            <p:cNvPr id="97" name="AutoShape 2"/>
            <p:cNvSpPr/>
            <p:nvPr/>
          </p:nvSpPr>
          <p:spPr>
            <a:xfrm rot="5400000">
              <a:off x="-569880" y="570960"/>
              <a:ext cx="2209680" cy="10670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Text Box 3"/>
            <p:cNvSpPr/>
            <p:nvPr/>
          </p:nvSpPr>
          <p:spPr>
            <a:xfrm>
              <a:off x="0" y="0"/>
              <a:ext cx="914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  <a:ea typeface="Osaka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  <a:ea typeface="Osaka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Text Box 4"/>
            <p:cNvSpPr/>
            <p:nvPr/>
          </p:nvSpPr>
          <p:spPr>
            <a:xfrm>
              <a:off x="984240" y="90360"/>
              <a:ext cx="686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  <a:ea typeface="Osaka"/>
                </a:rPr>
                <a:t>La composición de los seres viv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Text Box 5"/>
            <p:cNvSpPr/>
            <p:nvPr/>
          </p:nvSpPr>
          <p:spPr>
            <a:xfrm>
              <a:off x="76320" y="6400800"/>
              <a:ext cx="65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  <a:ea typeface="Osaka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1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2880" cy="57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Text Box 7"/>
          <p:cNvSpPr/>
          <p:nvPr/>
        </p:nvSpPr>
        <p:spPr>
          <a:xfrm>
            <a:off x="755640" y="1268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Arial"/>
              </a:rPr>
              <a:t>Compuestos inorgán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39640" y="1773360"/>
            <a:ext cx="7417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compuestos inorgánicos tienen moléculas sencillas que no están formadas por cadenas de átomos de carbono. Los más abundantes son el 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agu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el 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dióxido de carbon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las 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sales miner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052720" y="4932360"/>
            <a:ext cx="25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olécula de 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4878360" y="4952880"/>
            <a:ext cx="39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olécula de dióxido de carbo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32"/>
          <p:cNvGrpSpPr/>
          <p:nvPr/>
        </p:nvGrpSpPr>
        <p:grpSpPr>
          <a:xfrm>
            <a:off x="5280120" y="3627360"/>
            <a:ext cx="2266920" cy="1035000"/>
            <a:chOff x="5280120" y="3627360"/>
            <a:chExt cx="2266920" cy="1035000"/>
          </a:xfrm>
        </p:grpSpPr>
        <p:grpSp>
          <p:nvGrpSpPr>
            <p:cNvPr id="107" name="Group 12"/>
            <p:cNvGrpSpPr/>
            <p:nvPr/>
          </p:nvGrpSpPr>
          <p:grpSpPr>
            <a:xfrm>
              <a:off x="6799320" y="3700440"/>
              <a:ext cx="747720" cy="820800"/>
              <a:chOff x="6799320" y="3700440"/>
              <a:chExt cx="747720" cy="820800"/>
            </a:xfrm>
          </p:grpSpPr>
          <p:pic>
            <p:nvPicPr>
              <p:cNvPr id="108" name="Picture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6799320" y="3700440"/>
                <a:ext cx="747720" cy="82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Text Box 14"/>
              <p:cNvSpPr/>
              <p:nvPr/>
            </p:nvSpPr>
            <p:spPr>
              <a:xfrm>
                <a:off x="6919560" y="3833280"/>
                <a:ext cx="508680" cy="5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Group 15"/>
            <p:cNvGrpSpPr/>
            <p:nvPr/>
          </p:nvGrpSpPr>
          <p:grpSpPr>
            <a:xfrm>
              <a:off x="5932440" y="3627360"/>
              <a:ext cx="1035360" cy="1035000"/>
              <a:chOff x="5932440" y="3627360"/>
              <a:chExt cx="1035360" cy="1035000"/>
            </a:xfrm>
          </p:grpSpPr>
          <p:pic>
            <p:nvPicPr>
              <p:cNvPr id="111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5932440" y="3627360"/>
                <a:ext cx="1035360" cy="103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Text Box 17"/>
              <p:cNvSpPr/>
              <p:nvPr/>
            </p:nvSpPr>
            <p:spPr>
              <a:xfrm>
                <a:off x="6097320" y="3792240"/>
                <a:ext cx="711720" cy="71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Group 18"/>
            <p:cNvGrpSpPr/>
            <p:nvPr/>
          </p:nvGrpSpPr>
          <p:grpSpPr>
            <a:xfrm>
              <a:off x="5280120" y="3773520"/>
              <a:ext cx="895320" cy="888840"/>
              <a:chOff x="5280120" y="3773520"/>
              <a:chExt cx="895320" cy="888840"/>
            </a:xfrm>
          </p:grpSpPr>
          <p:pic>
            <p:nvPicPr>
              <p:cNvPr id="114" name="Pictur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5280120" y="3773520"/>
                <a:ext cx="895320" cy="88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Text Box 20"/>
              <p:cNvSpPr/>
              <p:nvPr/>
            </p:nvSpPr>
            <p:spPr>
              <a:xfrm>
                <a:off x="5429160" y="3916080"/>
                <a:ext cx="608400" cy="60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Text Box 21"/>
            <p:cNvSpPr/>
            <p:nvPr/>
          </p:nvSpPr>
          <p:spPr>
            <a:xfrm>
              <a:off x="5446800" y="3811680"/>
              <a:ext cx="5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4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22"/>
            <p:cNvSpPr/>
            <p:nvPr/>
          </p:nvSpPr>
          <p:spPr>
            <a:xfrm>
              <a:off x="6886800" y="3716280"/>
              <a:ext cx="57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4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6166080" y="3716280"/>
              <a:ext cx="57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4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33"/>
          <p:cNvGrpSpPr/>
          <p:nvPr/>
        </p:nvGrpSpPr>
        <p:grpSpPr>
          <a:xfrm>
            <a:off x="1981080" y="3276720"/>
            <a:ext cx="1942920" cy="1622160"/>
            <a:chOff x="1981080" y="3276720"/>
            <a:chExt cx="1942920" cy="1622160"/>
          </a:xfrm>
        </p:grpSpPr>
        <p:pic>
          <p:nvPicPr>
            <p:cNvPr id="120" name="Picture 11" descr=""/>
            <p:cNvPicPr/>
            <p:nvPr/>
          </p:nvPicPr>
          <p:blipFill>
            <a:blip r:embed="rId5"/>
            <a:stretch/>
          </p:blipFill>
          <p:spPr>
            <a:xfrm>
              <a:off x="1981080" y="3276720"/>
              <a:ext cx="1942920" cy="16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24"/>
            <p:cNvSpPr/>
            <p:nvPr/>
          </p:nvSpPr>
          <p:spPr>
            <a:xfrm>
              <a:off x="2628720" y="3443400"/>
              <a:ext cx="57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25"/>
            <p:cNvSpPr/>
            <p:nvPr/>
          </p:nvSpPr>
          <p:spPr>
            <a:xfrm>
              <a:off x="2123640" y="3946680"/>
              <a:ext cx="5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3060360" y="3803760"/>
              <a:ext cx="5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AutoShape 29"/>
          <p:cNvSpPr/>
          <p:nvPr/>
        </p:nvSpPr>
        <p:spPr>
          <a:xfrm>
            <a:off x="91440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2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4572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 luis</cp:lastModifiedBy>
  <cp:lastPrinted>2009-04-22T19:24:48Z</cp:lastPrinted>
  <dcterms:modified xsi:type="dcterms:W3CDTF">2012-10-04T16:24:35Z</dcterms:modified>
  <cp:revision>12</cp:revision>
  <dc:subject/>
  <dc:title>Presentación de PowerPoint</dc:title>
</cp:coreProperties>
</file>